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gif" ContentType="image/gif"/>
  <Override PartName="/ppt/media/image18.jpeg" ContentType="image/jpeg"/>
  <Override PartName="/ppt/media/image19.jpeg" ContentType="image/jpeg"/>
  <Override PartName="/ppt/media/image7.png" ContentType="image/png"/>
  <Override PartName="/ppt/media/image4.gif" ContentType="image/gif"/>
  <Override PartName="/ppt/media/image1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2.png" ContentType="image/png"/>
  <Override PartName="/ppt/media/image11.gif" ContentType="image/gif"/>
  <Override PartName="/ppt/media/image14.png" ContentType="image/png"/>
  <Override PartName="/ppt/media/image17.jpeg" ContentType="image/jpeg"/>
  <Override PartName="/ppt/media/image3.png" ContentType="image/pn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2612-F077-4C85-ABEE-8AE379AAF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1E02-7A8A-403C-9A31-A5371606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6218-F328-410C-8327-5E2A437B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8326-8B4A-47D3-A27F-123286943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0781-C896-4FAF-8DBB-3075E783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9819-6C1C-419B-8961-93AE314C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7D57-0786-4EC1-B3AA-8717C0DD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94ED-0630-4692-96D9-74B8DAD6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1C3E-F066-4B7F-A7F6-6163EE02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BD32-07CB-4A80-A263-DBC26501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3378-C79E-4B92-92A5-55FCCB38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DCF3-1FE5-4916-9CE8-756D62DA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2E00-AA7B-4233-AB3B-3532437767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58920" y="981000"/>
            <a:ext cx="56181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行楷"/>
              </a:rPr>
              <a:t>欢迎各位家长到来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43" name=""/>
          <p:cNvSpPr txBox="1"/>
          <p:nvPr/>
        </p:nvSpPr>
        <p:spPr>
          <a:xfrm rot="1593600">
            <a:off x="1979280" y="3715920"/>
            <a:ext cx="3398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幼圆"/>
              </a:rPr>
              <a:t>爸爸</a:t>
            </a:r>
            <a:endParaRPr b="1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558972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高一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028000" y="5734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39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1042920" y="1628640"/>
            <a:ext cx="6912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学生个体情况分析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ff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95280" y="765000"/>
          <a:ext cx="8532720" cy="5262840"/>
        </p:xfrm>
        <a:graphic>
          <a:graphicData uri="http://schemas.openxmlformats.org/drawingml/2006/table">
            <a:tbl>
              <a:tblPr/>
              <a:tblGrid>
                <a:gridCol w="1182600"/>
                <a:gridCol w="590760"/>
                <a:gridCol w="663480"/>
                <a:gridCol w="884160"/>
                <a:gridCol w="663480"/>
                <a:gridCol w="590760"/>
                <a:gridCol w="663480"/>
                <a:gridCol w="517680"/>
                <a:gridCol w="663480"/>
                <a:gridCol w="598320"/>
                <a:gridCol w="876600"/>
                <a:gridCol w="63792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语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数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英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物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化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生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历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地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政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总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级名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胡娅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4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展明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张怀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3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胡凯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苗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魏梦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王毅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俱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李雅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梁晶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9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pic>
        <p:nvPicPr>
          <p:cNvPr id="9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579680" cy="170028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395280" y="549360"/>
          <a:ext cx="8496360" cy="5280120"/>
        </p:xfrm>
        <a:graphic>
          <a:graphicData uri="http://schemas.openxmlformats.org/drawingml/2006/table">
            <a:tbl>
              <a:tblPr/>
              <a:tblGrid>
                <a:gridCol w="1081080"/>
                <a:gridCol w="647640"/>
                <a:gridCol w="576360"/>
                <a:gridCol w="792000"/>
                <a:gridCol w="574920"/>
                <a:gridCol w="576000"/>
                <a:gridCol w="708120"/>
                <a:gridCol w="708120"/>
                <a:gridCol w="708120"/>
                <a:gridCol w="612720"/>
                <a:gridCol w="863640"/>
                <a:gridCol w="647640"/>
              </a:tblGrid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语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数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英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物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化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生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历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地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政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总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级名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李芳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8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王是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叶辰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8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刘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张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丁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于梦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赵佩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张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8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6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白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4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 rot="13322400">
            <a:off x="6588000" y="115560"/>
            <a:ext cx="3019680" cy="13096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539640" y="476280"/>
          <a:ext cx="8255160" cy="5280120"/>
        </p:xfrm>
        <a:graphic>
          <a:graphicData uri="http://schemas.openxmlformats.org/drawingml/2006/table">
            <a:tbl>
              <a:tblPr/>
              <a:tblGrid>
                <a:gridCol w="1017720"/>
                <a:gridCol w="612720"/>
                <a:gridCol w="585720"/>
                <a:gridCol w="808200"/>
                <a:gridCol w="503280"/>
                <a:gridCol w="766800"/>
                <a:gridCol w="647640"/>
                <a:gridCol w="576360"/>
                <a:gridCol w="647640"/>
                <a:gridCol w="649080"/>
                <a:gridCol w="817560"/>
                <a:gridCol w="622440"/>
              </a:tblGrid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语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数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英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物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化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生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历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地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政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总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级名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徐英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李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宋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陈樱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3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刘梦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高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汤凯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3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王永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单潇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8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1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杨秋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rot="3904800">
            <a:off x="532080" y="-669240"/>
            <a:ext cx="1524240" cy="3672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631280" y="5589720"/>
            <a:ext cx="1512720" cy="1628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324000" y="765000"/>
          <a:ext cx="8496000" cy="4653000"/>
        </p:xfrm>
        <a:graphic>
          <a:graphicData uri="http://schemas.openxmlformats.org/drawingml/2006/table">
            <a:tbl>
              <a:tblPr/>
              <a:tblGrid>
                <a:gridCol w="1017360"/>
                <a:gridCol w="719280"/>
                <a:gridCol w="639720"/>
                <a:gridCol w="720720"/>
                <a:gridCol w="566640"/>
                <a:gridCol w="584280"/>
                <a:gridCol w="649440"/>
                <a:gridCol w="718920"/>
                <a:gridCol w="647640"/>
                <a:gridCol w="576360"/>
                <a:gridCol w="865080"/>
                <a:gridCol w="790560"/>
              </a:tblGrid>
              <a:tr h="66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语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数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英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物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化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生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历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地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政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总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级名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刘汉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董闽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0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周翛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邓珠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师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张雪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9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王艳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曾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李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曹苏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885080" y="5445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79680" cy="1700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324000" y="549360"/>
          <a:ext cx="8650080" cy="4670280"/>
        </p:xfrm>
        <a:graphic>
          <a:graphicData uri="http://schemas.openxmlformats.org/drawingml/2006/table">
            <a:tbl>
              <a:tblPr/>
              <a:tblGrid>
                <a:gridCol w="1054080"/>
                <a:gridCol w="695160"/>
                <a:gridCol w="577800"/>
                <a:gridCol w="711360"/>
                <a:gridCol w="565200"/>
                <a:gridCol w="573120"/>
                <a:gridCol w="576000"/>
                <a:gridCol w="790560"/>
                <a:gridCol w="576360"/>
                <a:gridCol w="792360"/>
                <a:gridCol w="1008000"/>
                <a:gridCol w="730080"/>
              </a:tblGrid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语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数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英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物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化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生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历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地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政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总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级名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沈婷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7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李文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7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刘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蒋欣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6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杨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6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崔秋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6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王晓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王文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48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朱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48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杨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451640" y="5229360"/>
            <a:ext cx="1513080" cy="1628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56360" y="5157720"/>
            <a:ext cx="1579680" cy="1700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075280" y="5229360"/>
            <a:ext cx="1512720" cy="1628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780000" y="5157720"/>
            <a:ext cx="1579320" cy="1700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2771640" y="5372280"/>
            <a:ext cx="1513080" cy="1628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1476360" y="5300640"/>
            <a:ext cx="1579680" cy="1700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179280" y="5300640"/>
            <a:ext cx="1579680" cy="17002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250920" y="404640"/>
          <a:ext cx="8642160" cy="5464440"/>
        </p:xfrm>
        <a:graphic>
          <a:graphicData uri="http://schemas.openxmlformats.org/drawingml/2006/table">
            <a:tbl>
              <a:tblPr/>
              <a:tblGrid>
                <a:gridCol w="1008000"/>
                <a:gridCol w="525600"/>
                <a:gridCol w="711000"/>
                <a:gridCol w="711360"/>
                <a:gridCol w="709560"/>
                <a:gridCol w="711000"/>
                <a:gridCol w="711360"/>
                <a:gridCol w="711000"/>
                <a:gridCol w="711360"/>
                <a:gridCol w="547560"/>
                <a:gridCol w="873360"/>
                <a:gridCol w="711000"/>
              </a:tblGrid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语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数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英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物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化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生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历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地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政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总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级名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刘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38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岳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8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3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姜远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牛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3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胡小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王小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2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刘阳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俊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王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范雨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姜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张宇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9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梁祖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31280" y="5734080"/>
            <a:ext cx="1512720" cy="1628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 rot="13322400">
            <a:off x="6659280" y="0"/>
            <a:ext cx="3019320" cy="1309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68360" y="2708280"/>
            <a:ext cx="309564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最勤奋的同学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" name=""/>
          <p:cNvSpPr/>
          <p:nvPr/>
        </p:nvSpPr>
        <p:spPr>
          <a:xfrm>
            <a:off x="1187280" y="3645000"/>
            <a:ext cx="89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刘阳俊楠 、邓珠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17600" y="549360"/>
            <a:ext cx="3960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为班级付出最多的同学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14842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胡小博、张奇、梁晶晶、周翛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5280" y="4799160"/>
            <a:ext cx="6048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有潜质但没有发挥出来的同学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5734080"/>
            <a:ext cx="92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张奇、白雪、刘梦雅、刘汉琦、刘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164360" y="4797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丁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 rot="13322400">
            <a:off x="5795640" y="2852280"/>
            <a:ext cx="3019320" cy="13096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539640" y="2725560"/>
            <a:ext cx="3745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最有礼貌的同学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" name=""/>
          <p:cNvSpPr/>
          <p:nvPr/>
        </p:nvSpPr>
        <p:spPr>
          <a:xfrm>
            <a:off x="1547640" y="3662280"/>
            <a:ext cx="44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曹苏苏、姜远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11280" y="4741920"/>
            <a:ext cx="374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最有爱心的同学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9" name=""/>
          <p:cNvSpPr/>
          <p:nvPr/>
        </p:nvSpPr>
        <p:spPr>
          <a:xfrm>
            <a:off x="1619280" y="575136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张宇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11280" y="404640"/>
            <a:ext cx="374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最有责任心的同学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134136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李雅琴、丁倩、于梦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 rot="17083200">
            <a:off x="5521320" y="2776320"/>
            <a:ext cx="4254480" cy="1844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4000" y="333360"/>
            <a:ext cx="86756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由考试成绩可以看出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相对来说，我班学生理科成绩较差。尤其是数学，许多同学感到很吃力，甚至听不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偏科现象严重。（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王世蒙、师娜、周翛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没一个同学各科都是全班的前茅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尖子生还不够尖（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胡凯健、苗壮…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不动的学生太多（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物理优秀率年级最高，年级第一也在我们班，可是平均却在第四名，不及我带的另一个班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3562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67480" y="1314360"/>
            <a:ext cx="1006560" cy="92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7086600" cy="1050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55640" y="112536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尊敬的各位家长</a:t>
            </a:r>
            <a:r>
              <a:rPr b="1" i="1" lang="zh-CN" sz="4000" spc="-1" strike="noStrike">
                <a:solidFill>
                  <a:srgbClr val="00cc00"/>
                </a:solidFill>
                <a:latin typeface="Times New Roman"/>
                <a:ea typeface="华文新魏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2133720"/>
            <a:ext cx="7561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首先感谢各位家长在百忙之中抽空来参加家长会，协助并参与我们的教育教学工作。希望通过今天的交流能够让各位家长了解孩子两个月来的学习情况，并努力共同帮助、督促孩子们进步，使他（她）们取得更好的成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79280" y="537372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3048120" y="-2286000"/>
            <a:ext cx="12588840" cy="94424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539640" y="333360"/>
            <a:ext cx="439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老师的感觉：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1197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部分同学们都很努力、勤奋，可成绩却不理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2276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的同学学习效率不高，打疲劳战，所以上课效率上不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3500280"/>
            <a:ext cx="817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的同学只知道苦学习，用很长的时间想一道题，也不问问身边的同学，太要面子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465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性格中有些悲观，不太爱说话，不爱回答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3280" y="587700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去办公室问题，不主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害怕老师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1835280" y="1341360"/>
            <a:ext cx="609588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ccff"/>
                  </a:solidFill>
                  <a:miter/>
                </a:ln>
                <a:solidFill>
                  <a:srgbClr val="ff0000"/>
                </a:solidFill>
                <a:latin typeface="幼圆"/>
              </a:rPr>
              <a:t>看看孩子的作业</a:t>
            </a:r>
            <a:endParaRPr b="1" lang="en-US" sz="4800" spc="1" strike="noStrike">
              <a:ln w="9360">
                <a:solidFill>
                  <a:srgbClr val="ccccff"/>
                </a:solidFill>
                <a:miter/>
              </a:ln>
              <a:solidFill>
                <a:srgbClr val="ff0000"/>
              </a:solidFill>
              <a:latin typeface="幼圆"/>
              <a:ea typeface="幼圆"/>
            </a:endParaRPr>
          </a:p>
        </p:txBody>
      </p:sp>
    </p:spTree>
  </p:cSld>
  <p:transition spd="med"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-150840" y="-227160"/>
            <a:ext cx="9447120" cy="7313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1908000" y="2205000"/>
            <a:ext cx="5112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走进孩子们的生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p:transition spd="med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ff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507760" y="222120"/>
            <a:ext cx="4569840" cy="61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下半学期班级工作设想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抓学风，促班风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家一起努力形成形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良好的学习氛围，努力抓语、数、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切注意学生的思想变化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学生给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更多关心和帮助，促使其在学习和思想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都能有较大转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切联系家长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校与家长相互沟通，分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生的学习，生活情况。做到有问题及时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尽量为学生创造一个良好的竞争的学习环境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劳逸结合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让学生把压力转变成动力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愉快学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133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1066680" y="2895480"/>
            <a:ext cx="70106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赠给家长！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00040" y="789480"/>
            <a:ext cx="5813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一个孩子生活在批评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他就学会了谴责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一个孩子生活在鼓励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他就学会了自信；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一个孩子生活在忍耐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他就学会了耐心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一个孩子生活在表扬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他就学会了感激；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一个孩子生活在接受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他就学会了爱；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一个孩子生活在分享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他就学会了慷慨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一个孩子生活在真诚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他就学会头脑平静地生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70720" y="-87840"/>
            <a:ext cx="1003320" cy="2896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Arial"/>
                <a:ea typeface="华文彩云"/>
              </a:rPr>
              <a:t>赠家长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86600" cy="10508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3886200" cy="48769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880560" y="3333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任科教师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1484280"/>
            <a:ext cx="71298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语文：…   电话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********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学：…   电话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********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外语：…   电话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********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物理：…   电话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***********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班主任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化学：…   电话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********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生物：…   电话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历史：…   电话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地理：…   电话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********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政治：…  电话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********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3880" y="609480"/>
            <a:ext cx="70106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676520" y="4876920"/>
            <a:ext cx="6172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??"/>
              </a:rPr>
              <a:t>一起帮助孩子更好学习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??"/>
              </a:rPr>
              <a:t>使之顺利进入理想大学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57480" y="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ff00"/>
                </a:solidFill>
                <a:latin typeface="Times New Roman"/>
              </a:rPr>
              <a:t>共同的心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2158920" y="1700280"/>
            <a:ext cx="69850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爸爸、妈妈、老师，我会让你们看到我的进步，我的成长，在下一次考试中，让你们眼前一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梁晶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62481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87880" y="236520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期中考试分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4572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90760" y="34920"/>
            <a:ext cx="31982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目前班级总分前十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71640" y="907920"/>
          <a:ext cx="6769080" cy="5693040"/>
        </p:xfrm>
        <a:graphic>
          <a:graphicData uri="http://schemas.openxmlformats.org/drawingml/2006/table">
            <a:tbl>
              <a:tblPr/>
              <a:tblGrid>
                <a:gridCol w="2255760"/>
                <a:gridCol w="2257560"/>
                <a:gridCol w="22557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总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级名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胡娅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4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展明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张怀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3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胡凯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苗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魏梦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王毅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俱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李雅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梁晶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9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 rot="16829400">
            <a:off x="5238360" y="3099960"/>
            <a:ext cx="5448240" cy="2362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4648320"/>
            <a:ext cx="1447920" cy="2209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733920" y="4724280"/>
            <a:ext cx="1981080" cy="2133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029200" y="4724280"/>
            <a:ext cx="2044800" cy="2438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7543800" y="3733920"/>
            <a:ext cx="2057400" cy="3124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762120" y="4343400"/>
            <a:ext cx="190476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6248520" y="5181480"/>
            <a:ext cx="2044440" cy="1676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1295280" y="5257800"/>
            <a:ext cx="2044800" cy="1600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2514600" y="5257800"/>
            <a:ext cx="2044800" cy="2209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0" y="0"/>
            <a:ext cx="281952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786400" y="2362320"/>
            <a:ext cx="370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单科班级前十名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ff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395280" y="333360"/>
          <a:ext cx="3024360" cy="6356520"/>
        </p:xfrm>
        <a:graphic>
          <a:graphicData uri="http://schemas.openxmlformats.org/drawingml/2006/table">
            <a:tbl>
              <a:tblPr/>
              <a:tblGrid>
                <a:gridCol w="1779480"/>
                <a:gridCol w="124488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语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刘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丁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周翛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陈樱鑫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师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俱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沈婷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宋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杨秋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李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3640" y="260280"/>
          <a:ext cx="3240360" cy="6424560"/>
        </p:xfrm>
        <a:graphic>
          <a:graphicData uri="http://schemas.openxmlformats.org/drawingml/2006/table">
            <a:tbl>
              <a:tblPr/>
              <a:tblGrid>
                <a:gridCol w="1754280"/>
                <a:gridCol w="148608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数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魏梦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1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李芳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王是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梁晶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李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张怀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胡娅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苗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高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李雅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92360" y="1341360"/>
            <a:ext cx="1524240" cy="3672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84360" y="260280"/>
          <a:ext cx="2952720" cy="6356520"/>
        </p:xfrm>
        <a:graphic>
          <a:graphicData uri="http://schemas.openxmlformats.org/drawingml/2006/table">
            <a:tbl>
              <a:tblPr/>
              <a:tblGrid>
                <a:gridCol w="1731960"/>
                <a:gridCol w="122076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英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师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展明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胡娅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4.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梁晶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4.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刘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周翛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胡凯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王毅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苗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李雅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5148360" y="333360"/>
          <a:ext cx="3097080" cy="6356520"/>
        </p:xfrm>
        <a:graphic>
          <a:graphicData uri="http://schemas.openxmlformats.org/drawingml/2006/table">
            <a:tbl>
              <a:tblPr/>
              <a:tblGrid>
                <a:gridCol w="1549440"/>
                <a:gridCol w="154764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物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王是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俱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胡凯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苗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李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展明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张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王毅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胡娅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张怀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708360" y="1341360"/>
            <a:ext cx="1523880" cy="367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ff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708360" y="1125360"/>
            <a:ext cx="1523880" cy="3672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81080" y="228600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71640" y="242100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1640" y="2349360"/>
            <a:ext cx="32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16000" y="31417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68360" y="257040"/>
          <a:ext cx="3095640" cy="5778720"/>
        </p:xfrm>
        <a:graphic>
          <a:graphicData uri="http://schemas.openxmlformats.org/drawingml/2006/table">
            <a:tbl>
              <a:tblPr/>
              <a:tblGrid>
                <a:gridCol w="1871640"/>
                <a:gridCol w="122400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化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苗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胡娅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张怀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胡凯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王毅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李雅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于梦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魏梦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张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5508720" y="765000"/>
          <a:ext cx="2879640" cy="5778720"/>
        </p:xfrm>
        <a:graphic>
          <a:graphicData uri="http://schemas.openxmlformats.org/drawingml/2006/table">
            <a:tbl>
              <a:tblPr/>
              <a:tblGrid>
                <a:gridCol w="1439640"/>
                <a:gridCol w="144000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胡娅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张怀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赵佩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展明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胡凯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丁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李雅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于梦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张磊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王是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508720" y="206280"/>
          <a:ext cx="2879640" cy="577800"/>
        </p:xfrm>
        <a:graphic>
          <a:graphicData uri="http://schemas.openxmlformats.org/drawingml/2006/table">
            <a:tbl>
              <a:tblPr/>
              <a:tblGrid>
                <a:gridCol w="1439640"/>
                <a:gridCol w="144000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生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68360" y="6019920"/>
          <a:ext cx="3095640" cy="577800"/>
        </p:xfrm>
        <a:graphic>
          <a:graphicData uri="http://schemas.openxmlformats.org/drawingml/2006/table">
            <a:tbl>
              <a:tblPr/>
              <a:tblGrid>
                <a:gridCol w="1871640"/>
                <a:gridCol w="122400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叶辰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化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274920" y="333360"/>
          <a:ext cx="2700360" cy="5778360"/>
        </p:xfrm>
        <a:graphic>
          <a:graphicData uri="http://schemas.openxmlformats.org/drawingml/2006/table">
            <a:tbl>
              <a:tblPr/>
              <a:tblGrid>
                <a:gridCol w="1622520"/>
                <a:gridCol w="107784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历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王晓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张怀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展明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刘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张磊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王永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高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苗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俱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250920" y="907920"/>
          <a:ext cx="2700360" cy="5778720"/>
        </p:xfrm>
        <a:graphic>
          <a:graphicData uri="http://schemas.openxmlformats.org/drawingml/2006/table">
            <a:tbl>
              <a:tblPr/>
              <a:tblGrid>
                <a:gridCol w="1584360"/>
                <a:gridCol w="111600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张磊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展明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胡凯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王永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王毅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高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魏梦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陈樱鑫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张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李雅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6232680" y="907920"/>
          <a:ext cx="2660400" cy="5778720"/>
        </p:xfrm>
        <a:graphic>
          <a:graphicData uri="http://schemas.openxmlformats.org/drawingml/2006/table">
            <a:tbl>
              <a:tblPr/>
              <a:tblGrid>
                <a:gridCol w="1439640"/>
                <a:gridCol w="122076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丁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周翛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胡凯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俱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胡娅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张怀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师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魏梦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沈婷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张磊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250920" y="333360"/>
          <a:ext cx="2700360" cy="577800"/>
        </p:xfrm>
        <a:graphic>
          <a:graphicData uri="http://schemas.openxmlformats.org/drawingml/2006/table">
            <a:tbl>
              <a:tblPr/>
              <a:tblGrid>
                <a:gridCol w="1584360"/>
                <a:gridCol w="111600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地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6227640" y="333360"/>
          <a:ext cx="2665440" cy="577800"/>
        </p:xfrm>
        <a:graphic>
          <a:graphicData uri="http://schemas.openxmlformats.org/drawingml/2006/table">
            <a:tbl>
              <a:tblPr/>
              <a:tblGrid>
                <a:gridCol w="1440000"/>
                <a:gridCol w="122544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政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274920" y="6093000"/>
          <a:ext cx="2700360" cy="577800"/>
        </p:xfrm>
        <a:graphic>
          <a:graphicData uri="http://schemas.openxmlformats.org/drawingml/2006/table">
            <a:tbl>
              <a:tblPr/>
              <a:tblGrid>
                <a:gridCol w="1584360"/>
                <a:gridCol w="111600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魏梦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12:32:3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1:41:28Z</dcterms:modified>
  <cp:revision>154</cp:revision>
  <dc:subject>主题班会课件(分28大类): http://shop62905894.taobao.com</dc:subject>
  <dc:title>主题班会课件(分28大类): http://shop62905894.taobao.com</dc:title>
</cp:coreProperties>
</file>